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BED-549D-4CC6-A1AD-7766063B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247-F386-457E-AE2D-D984E018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D3C-BF85-4C94-B1C5-E4B7E4BB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3DC-2709-40EC-875F-D560D34F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ADC-EECB-4B76-962F-7682E36A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40A-7C6D-4B0E-9C11-C4E9002D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92C-3ABF-46A8-8C9E-933F11FC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772-D0DB-429B-ABDD-440B5257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821-95CF-42BD-A56B-E58F63B2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5AE-1B27-4D33-910C-D389FE68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BC5-234F-4FEB-B8AE-A2EDB57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561-701F-4564-A6E1-6605A77E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ECF9-96E8-4FB5-80A3-F68D82955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83818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ary Probes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rk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905120"/>
            <a:ext cx="792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5909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22680" y="61722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4840" y="2286000"/>
            <a:ext cx="22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Jos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rie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586728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28800" y="4419720"/>
            <a:ext cx="5410080" cy="160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38640" y="62136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wmass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napsatconf" descr=""/>
          <p:cNvPicPr/>
          <p:nvPr/>
        </p:nvPicPr>
        <p:blipFill>
          <a:blip r:embed="rId1"/>
          <a:stretch/>
        </p:blipFill>
        <p:spPr>
          <a:xfrm>
            <a:off x="0" y="457200"/>
            <a:ext cx="4249800" cy="6400800"/>
          </a:xfrm>
          <a:prstGeom prst="rect">
            <a:avLst/>
          </a:prstGeom>
          <a:ln w="0">
            <a:noFill/>
          </a:ln>
        </p:spPr>
      </p:pic>
      <p:pic>
        <p:nvPicPr>
          <p:cNvPr id="75" name="snap01_idl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5257800" cy="3755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3962520" y="3504960"/>
            <a:ext cx="19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13560" y="59817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oliath, 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nap02_idl" descr=""/>
          <p:cNvPicPr/>
          <p:nvPr/>
        </p:nvPicPr>
        <p:blipFill>
          <a:blip r:embed="rId1"/>
          <a:stretch/>
        </p:blipFill>
        <p:spPr>
          <a:xfrm>
            <a:off x="565200" y="565200"/>
            <a:ext cx="8012160" cy="5726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21000" y="422280"/>
            <a:ext cx="43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ed SNAP Sensitivity 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 o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nap07-10_idl_short" descr=""/>
          <p:cNvPicPr/>
          <p:nvPr/>
        </p:nvPicPr>
        <p:blipFill>
          <a:blip r:embed="rId1"/>
          <a:stretch/>
        </p:blipFill>
        <p:spPr>
          <a:xfrm>
            <a:off x="565200" y="565200"/>
            <a:ext cx="8012160" cy="572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2040" y="38088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P Sensitivity to Varying DE Equation o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6560" y="6232680"/>
            <a:ext cx="235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=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+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ngQK" descr=""/>
          <p:cNvPicPr/>
          <p:nvPr/>
        </p:nvPicPr>
        <p:blipFill>
          <a:blip r:embed="rId1"/>
          <a:stretch/>
        </p:blipFill>
        <p:spPr>
          <a:xfrm>
            <a:off x="3657600" y="53352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84" name="eqn1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2911680" cy="849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6200" y="42228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 Diameter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6172200"/>
            <a:ext cx="24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ui, Stebbins, Bur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760" y="331776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09480" y="259056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3317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95480" y="251424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7760" y="4765680"/>
            <a:ext cx="32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insically isotrop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: radia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verse sizes are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eqn2" descr=""/>
          <p:cNvPicPr/>
          <p:nvPr/>
        </p:nvPicPr>
        <p:blipFill>
          <a:blip r:embed="rId1"/>
          <a:stretch/>
        </p:blipFill>
        <p:spPr>
          <a:xfrm>
            <a:off x="1066680" y="2460600"/>
            <a:ext cx="6858000" cy="1979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67680" y="803160"/>
            <a:ext cx="81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man-alpha forest:  absorbing gas along LOS to distant Quas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along line of 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4419720"/>
            <a:ext cx="44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correlations between near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of 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41148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fig3" descr=""/>
          <p:cNvPicPr/>
          <p:nvPr/>
        </p:nvPicPr>
        <p:blipFill>
          <a:blip r:embed="rId1"/>
          <a:stretch/>
        </p:blipFill>
        <p:spPr>
          <a:xfrm>
            <a:off x="2819520" y="558720"/>
            <a:ext cx="6076800" cy="572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5720" y="270000"/>
            <a:ext cx="329112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an Digital Sky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ed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redshift sp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,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inous Red Gala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 ~ 0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tsubara &amp; Sza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eak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6257880" cy="6705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8000" y="422280"/>
            <a:ext cx="275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B Anisotro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 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to l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ttering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mat_w.CMB.SNAP_Fisher" descr=""/>
          <p:cNvPicPr/>
          <p:nvPr/>
        </p:nvPicPr>
        <p:blipFill>
          <a:blip r:embed="rId1"/>
          <a:stretch/>
        </p:blipFill>
        <p:spPr>
          <a:xfrm>
            <a:off x="696960" y="176040"/>
            <a:ext cx="775008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figure1" descr=""/>
          <p:cNvPicPr/>
          <p:nvPr/>
        </p:nvPicPr>
        <p:blipFill>
          <a:blip r:embed="rId1"/>
          <a:stretch/>
        </p:blipFill>
        <p:spPr>
          <a:xfrm>
            <a:off x="704880" y="257040"/>
            <a:ext cx="7734240" cy="6343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84600" y="498600"/>
            <a:ext cx="55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 of Angular clustering as prob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 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4240" y="617220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oray, Hu, Huterer, Joff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vol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419720" cy="4419720"/>
          </a:xfrm>
          <a:prstGeom prst="rect">
            <a:avLst/>
          </a:prstGeom>
          <a:ln w="0">
            <a:noFill/>
          </a:ln>
        </p:spPr>
      </p:pic>
      <p:pic>
        <p:nvPicPr>
          <p:cNvPr id="105" name="allinonec" descr=""/>
          <p:cNvPicPr/>
          <p:nvPr/>
        </p:nvPicPr>
        <p:blipFill>
          <a:blip r:embed="rId2"/>
          <a:stretch/>
        </p:blipFill>
        <p:spPr>
          <a:xfrm>
            <a:off x="0" y="13716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885320" y="57456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Element as a function of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74640" y="6213600"/>
            <a:ext cx="63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Energ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re volume at moderate red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50360" y="803160"/>
            <a:ext cx="6981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story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 Cosmology is litte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`detections’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later evapo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 (and woman) cannot live by Supernova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lications of Dark Energy are so profound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Ne Ia results must be confirmed/extend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independent method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t systematic err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t cosmological parameter degenera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smic Microwave Background is not a panac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limited sensitivity to Dark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ultipaperc" descr=""/>
          <p:cNvPicPr/>
          <p:nvPr/>
        </p:nvPicPr>
        <p:blipFill>
          <a:blip r:embed="rId1"/>
          <a:stretch/>
        </p:blipFill>
        <p:spPr>
          <a:xfrm>
            <a:off x="0" y="1219320"/>
            <a:ext cx="4957920" cy="4957560"/>
          </a:xfrm>
          <a:prstGeom prst="rect">
            <a:avLst/>
          </a:prstGeom>
          <a:ln w="0">
            <a:noFill/>
          </a:ln>
        </p:spPr>
      </p:pic>
      <p:pic>
        <p:nvPicPr>
          <p:cNvPr id="109" name="mat_w.halos" descr=""/>
          <p:cNvPicPr/>
          <p:nvPr/>
        </p:nvPicPr>
        <p:blipFill>
          <a:blip r:embed="rId2"/>
          <a:stretch/>
        </p:blipFill>
        <p:spPr>
          <a:xfrm>
            <a:off x="4724280" y="2101680"/>
            <a:ext cx="4419720" cy="3710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1680" y="0"/>
            <a:ext cx="578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ing Galaxy Dark Matter Halos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 Redshif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5320" y="6438960"/>
            <a:ext cx="83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ewman &amp; Davis                                                                                Huterer &amp; Tu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39600" y="914400"/>
            <a:ext cx="631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000 galaxies at z ~ 1 with measu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widths (rotation spee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83200" y="5653080"/>
            <a:ext cx="31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NB: must probe Dark matt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dominated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growth_norm" descr=""/>
          <p:cNvPicPr/>
          <p:nvPr/>
        </p:nvPicPr>
        <p:blipFill>
          <a:blip r:embed="rId1"/>
          <a:stretch/>
        </p:blipFill>
        <p:spPr>
          <a:xfrm>
            <a:off x="1143000" y="39060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30640" y="42228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f Density Perturb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2720" y="6286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48120" y="217476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en or w &gt;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03320" y="1711440"/>
            <a:ext cx="3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4120" y="87948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lat, matter-do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562360" y="1143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Clusters of Galax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752480"/>
            <a:ext cx="792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23200" y="2251080"/>
            <a:ext cx="41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yaev Zel’dovich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ray emission from cluster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HMHeqn1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5562720" cy="1103400"/>
          </a:xfrm>
          <a:prstGeom prst="rect">
            <a:avLst/>
          </a:prstGeom>
          <a:ln w="0">
            <a:noFill/>
          </a:ln>
        </p:spPr>
      </p:pic>
      <p:pic>
        <p:nvPicPr>
          <p:cNvPr id="125" name="HMHeqn2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8610480" cy="862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53080" y="51055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400" y="5181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mul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3760" y="64008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rowth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086600" y="6248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mlim-sz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772320" cy="677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3480" y="5851440"/>
            <a:ext cx="18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m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er, Mo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080" y="2890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masslimserrs" descr=""/>
          <p:cNvPicPr/>
          <p:nvPr/>
        </p:nvPicPr>
        <p:blipFill>
          <a:blip r:embed="rId1"/>
          <a:stretch/>
        </p:blipFill>
        <p:spPr>
          <a:xfrm>
            <a:off x="2179800" y="457200"/>
            <a:ext cx="6964200" cy="5850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78160" y="232740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 ~ 25 (SDSS Sou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01120" y="40035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R ~ 2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87120" y="47656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 ~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4320" y="345960"/>
            <a:ext cx="2036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Len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5360" y="61372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ffre, Frie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w_om_new" descr=""/>
          <p:cNvPicPr/>
          <p:nvPr/>
        </p:nvPicPr>
        <p:blipFill>
          <a:blip r:embed="rId1"/>
          <a:stretch/>
        </p:blipFill>
        <p:spPr>
          <a:xfrm>
            <a:off x="2523960" y="237960"/>
            <a:ext cx="6620040" cy="6620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63600" y="422280"/>
            <a:ext cx="227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s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,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yae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l’dov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9920" y="6286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older, Carlstrom, 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HMH2-f2" descr=""/>
          <p:cNvPicPr/>
          <p:nvPr/>
        </p:nvPicPr>
        <p:blipFill>
          <a:blip r:embed="rId1"/>
          <a:stretch/>
        </p:blipFill>
        <p:spPr>
          <a:xfrm>
            <a:off x="25146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2440" y="422280"/>
            <a:ext cx="31482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4000 sq. de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6200" y="64738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older, Haiman, Mo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 Lensing:Number Cts of Background Galax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1520" y="61722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1828800" y="1901160"/>
            <a:ext cx="54612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(per .5 ma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numcounts_all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5257800" cy="5181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43200" y="1600200"/>
            <a:ext cx="45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2590920"/>
            <a:ext cx="45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3581280"/>
            <a:ext cx="45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4572000"/>
            <a:ext cx="45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2880" y="1600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28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288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5638680"/>
            <a:ext cx="412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5638680"/>
            <a:ext cx="412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638680"/>
            <a:ext cx="412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5638680"/>
            <a:ext cx="412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35600" y="5638680"/>
            <a:ext cx="412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638680"/>
            <a:ext cx="412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638680"/>
            <a:ext cx="412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360" y="5089680"/>
            <a:ext cx="302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H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e: extra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DSS lumin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w/o mer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masslimserrs" descr=""/>
          <p:cNvPicPr/>
          <p:nvPr/>
        </p:nvPicPr>
        <p:blipFill>
          <a:blip r:embed="rId1"/>
          <a:stretch/>
        </p:blipFill>
        <p:spPr>
          <a:xfrm>
            <a:off x="2179800" y="457200"/>
            <a:ext cx="6964200" cy="5850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78160" y="232740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 ~ 25 (SDSS Sou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01120" y="40035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R ~ 2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87120" y="47656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 ~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680" y="422280"/>
            <a:ext cx="2248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/N &gt; 5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rtur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NF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rvativ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opy%20of%203266totalmass" descr=""/>
          <p:cNvPicPr/>
          <p:nvPr/>
        </p:nvPicPr>
        <p:blipFill>
          <a:blip r:embed="rId1"/>
          <a:stretch/>
        </p:blipFill>
        <p:spPr>
          <a:xfrm>
            <a:off x="1324080" y="176040"/>
            <a:ext cx="6495840" cy="650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7520" y="422280"/>
            <a:ext cx="117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01720" y="563580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Joff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y Iss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05120"/>
            <a:ext cx="792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0800" y="2457360"/>
            <a:ext cx="703728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Dark Energy?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ll the SNe results hold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nature of the Dark Ener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i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r something e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w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ol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rk Energy dynamic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L Detected Clusters dn/dz per sq.d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8360" y="6172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49680" y="292176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/dz per sq. d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newdndz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867640" cy="5159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53920" y="1981080"/>
            <a:ext cx="52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6560" y="3276720"/>
            <a:ext cx="40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8840" y="4572000"/>
            <a:ext cx="29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920" y="5791320"/>
            <a:ext cx="33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5791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5791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5791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5791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5791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543800" y="1219320"/>
            <a:ext cx="941040" cy="1236960"/>
            <a:chOff x="7543800" y="1219320"/>
            <a:chExt cx="941040" cy="1236960"/>
          </a:xfrm>
        </p:grpSpPr>
        <p:sp>
          <p:nvSpPr>
            <p:cNvPr id="187" name=""/>
            <p:cNvSpPr/>
            <p:nvPr/>
          </p:nvSpPr>
          <p:spPr>
            <a:xfrm>
              <a:off x="7544520" y="1219320"/>
              <a:ext cx="85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SDS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43800" y="167652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</a:rPr>
                <a:t>R=27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44520" y="2057400"/>
              <a:ext cx="74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R=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newnvz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277400" cy="6238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707720" y="1031760"/>
            <a:ext cx="37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R ~ 27.5; 20,000 sq. d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(co-added LSST or 1-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wide-field SN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57400" y="324180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 ~ 30; 16 sq. d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53200" y="4384800"/>
            <a:ext cx="18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 ~ 25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00 sq. d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SDSS sou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4400" y="650880"/>
            <a:ext cx="299844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ll marginalize 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99320" y="3622680"/>
            <a:ext cx="240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nominal SN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SNe m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megvw-newallplus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6696360" cy="6086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01120" y="4842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4320" y="270000"/>
            <a:ext cx="257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sky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megvw-newv" descr=""/>
          <p:cNvPicPr/>
          <p:nvPr/>
        </p:nvPicPr>
        <p:blipFill>
          <a:blip r:embed="rId1"/>
          <a:stretch/>
        </p:blipFill>
        <p:spPr>
          <a:xfrm>
            <a:off x="2685960" y="380880"/>
            <a:ext cx="6458040" cy="6067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86560" y="498600"/>
            <a:ext cx="299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Weak Len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ng in Da No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ng in Da Fu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count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zzines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lim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W concen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8760" y="640080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re is more information to be used than N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k_l" descr=""/>
          <p:cNvPicPr/>
          <p:nvPr/>
        </p:nvPicPr>
        <p:blipFill>
          <a:blip r:embed="rId1"/>
          <a:stretch/>
        </p:blipFill>
        <p:spPr>
          <a:xfrm>
            <a:off x="2362320" y="1100160"/>
            <a:ext cx="6781680" cy="5450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1600" y="345960"/>
            <a:ext cx="42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Lensing: Large-scale 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480" y="1793880"/>
            <a:ext cx="1883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sq. de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 ~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ut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1000sqdeg_27mag" descr=""/>
          <p:cNvPicPr/>
          <p:nvPr/>
        </p:nvPicPr>
        <p:blipFill>
          <a:blip r:embed="rId1"/>
          <a:stretch/>
        </p:blipFill>
        <p:spPr>
          <a:xfrm>
            <a:off x="1189080" y="353880"/>
            <a:ext cx="7954920" cy="6504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7000" y="422280"/>
            <a:ext cx="4921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m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sq.d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~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veat: systematics in low S/N reg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mat_w.CMB.SNAP_Fisher" descr=""/>
          <p:cNvPicPr/>
          <p:nvPr/>
        </p:nvPicPr>
        <p:blipFill>
          <a:blip r:embed="rId1"/>
          <a:stretch/>
        </p:blipFill>
        <p:spPr>
          <a:xfrm>
            <a:off x="696960" y="176040"/>
            <a:ext cx="7750080" cy="6504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H="1" flipV="1">
            <a:off x="2209320" y="45720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99480" y="4613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162920" y="43434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04280" y="4384800"/>
            <a:ext cx="12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752480"/>
            <a:ext cx="792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74640" y="2327400"/>
            <a:ext cx="685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probes of Dark Energy, including S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mature over the next 5-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confirmation of Dark Energy is wi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rospects for indepen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on the nature of the Dark Energy,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ing systematics and nearly `orthogonal’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eneraci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Effects of Dark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95280"/>
            <a:ext cx="7925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Teqn1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629400" cy="234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2840" y="152388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Energy affects expansion rate of the Unive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3960" y="46483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uterer &amp; Tu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8080" y="5410080"/>
            <a:ext cx="62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Energy may also interact: long-range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2160" y="62103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arr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Observables: probing 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447920"/>
            <a:ext cx="7925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8280" y="2133720"/>
            <a:ext cx="952884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Luminosity distance vs. redshift:  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cc00cc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(z)    m(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ndard candles: SNe 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ngular diameter distance vs. z:    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cc00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(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cock-Paczynski test: Ly-alpha forest; redshift cor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Number counts vs. redshift:        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N(M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ob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*Comoving Volume element 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dV/dzd</a:t>
            </a:r>
            <a:r>
              <a:rPr b="0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*Growth rate of density perturbations  </a:t>
            </a:r>
            <a:r>
              <a:rPr b="0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(z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nts of galaxy halos and of clusters; QSO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60320" y="1079640"/>
            <a:ext cx="68727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ving Distance:                   r(z)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x/H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flat Unive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inosity Distance:          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) = r(z)(1+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ular diameter Distance:       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) = r(z)/(1+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ving Volume Element:      dV/dz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)/H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ragan.sens2" descr=""/>
          <p:cNvPicPr/>
          <p:nvPr/>
        </p:nvPicPr>
        <p:blipFill>
          <a:blip r:embed="rId1"/>
          <a:stretch/>
        </p:blipFill>
        <p:spPr>
          <a:xfrm>
            <a:off x="1028880" y="154080"/>
            <a:ext cx="7086600" cy="6549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22680" y="650880"/>
            <a:ext cx="497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 to Dark Energy equ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35240" y="21747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1080" y="37339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vi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65480" y="62866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uterer &amp; Tu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magdiff.2parms" descr=""/>
          <p:cNvPicPr/>
          <p:nvPr/>
        </p:nvPicPr>
        <p:blipFill>
          <a:blip r:embed="rId1"/>
          <a:stretch/>
        </p:blipFill>
        <p:spPr>
          <a:xfrm>
            <a:off x="554040" y="165240"/>
            <a:ext cx="803592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752480"/>
            <a:ext cx="792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0040" y="2631960"/>
            <a:ext cx="59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contours depend on priors assum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osmologica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depend on projected stat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/igno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1T23:17:38Z</dcterms:created>
  <dc:creator>Michael Joffre</dc:creator>
  <dc:description/>
  <dc:language>en-US</dc:language>
  <cp:lastModifiedBy>Guest</cp:lastModifiedBy>
  <dcterms:modified xsi:type="dcterms:W3CDTF">2001-07-16T21:15:34Z</dcterms:modified>
  <cp:revision>54</cp:revision>
  <dc:subject/>
  <dc:title>Prospects for Future Weak Lensing Cluster Surveys</dc:title>
</cp:coreProperties>
</file>