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80200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838320"/>
            <a:ext cx="80200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8383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3280" y="38383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9079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6920" y="9079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8383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38383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6920" y="3838320"/>
            <a:ext cx="25822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907920"/>
            <a:ext cx="8020080" cy="56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80200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1440" y="-360"/>
            <a:ext cx="6424560" cy="32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8383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3280" y="38383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391356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38320"/>
            <a:ext cx="8020080" cy="267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Click to edit the title text format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907920"/>
            <a:ext cx="80200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Click to edit the outline text format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279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 flipV="1">
            <a:off x="576000" y="793800"/>
            <a:ext cx="7962840" cy="144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970680" y="108000"/>
            <a:ext cx="203220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Weak Lensing from Space with SNAP</a:t>
            </a:r>
            <a:endParaRPr b="1" lang="en-US" sz="3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4920" y="1904760"/>
            <a:ext cx="7162920" cy="464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exandre Refregier (IoA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hard Ellis (Caltech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Bacon (IoA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hard Massey (IoA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y Bernstein (Michigan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 McKay (Michigan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huvnesh Jain (U. Penn)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for the SNAP Lensing Working Group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Cambridge Workshop - July 2001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Mapping the Dark Matter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80" name="kappa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6400800" cy="5686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10280" y="48769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x0.5 d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in et al.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763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Lensing Power Spectrum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83" name="cl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867280" cy="536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391520" y="21337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C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96840" y="4251240"/>
            <a:ext cx="17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CDM (lin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2960" y="16002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OC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6400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NAP WF survey [300 deg</a:t>
            </a:r>
            <a:r>
              <a:rPr b="1" lang="en-US" sz="2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; 100 g arcmin</a:t>
            </a:r>
            <a:r>
              <a:rPr b="1" lang="en-US" sz="2000" spc="-1" strike="noStrike" baseline="30000">
                <a:solidFill>
                  <a:srgbClr val="0033cc"/>
                </a:solidFill>
                <a:latin typeface="Times New Roman"/>
              </a:rPr>
              <a:t>-2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; HST image qualit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ew cosmological constraints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89" name="oms8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791320" cy="546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28800" y="1905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8001000" y="1905120"/>
                <a:ext cx="5335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302160" y="2590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ew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001000" y="2590920"/>
                <a:ext cx="53352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80880" y="6324480"/>
            <a:ext cx="876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Data will break current degeneracies (e.g. </a:t>
            </a:r>
            <a:r>
              <a:rPr b="1" i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8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;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and w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1066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. Bernardeau et al.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Power Spectrum with Dark Energy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371600"/>
            <a:ext cx="388620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non-linear power spectrum for quintessence models of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, Caldwell, Bode &amp; Wang (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ark Energy equation of state (</a:t>
            </a: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w=p/</a:t>
            </a:r>
            <a:r>
              <a:rPr b="1" lang="en-US" sz="2000" spc="-1" strike="noStrike">
                <a:solidFill>
                  <a:srgbClr val="00ae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an be measured from the lensing power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there is some degeneracy between </a:t>
            </a:r>
            <a:r>
              <a:rPr b="0" lang="en-US" sz="2000" spc="-1" strike="noStrike">
                <a:solidFill>
                  <a:srgbClr val="00ae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ae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ae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ae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ae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l_w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876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snap_target2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315200" cy="6159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90720" y="5105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Weak Lensing + C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65120" y="914400"/>
            <a:ext cx="65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Weak Lensing breaks degeneracies in </a:t>
            </a:r>
            <a:r>
              <a:rPr b="1" i="1" lang="en-US" sz="1800" spc="-1" strike="noStrike">
                <a:solidFill>
                  <a:srgbClr val="fc0128"/>
                </a:solidFill>
                <a:latin typeface="Times New Roman"/>
              </a:rPr>
              <a:t>w-Omega 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plane. Does </a:t>
            </a:r>
            <a:r>
              <a:rPr b="1" i="1" lang="en-US" sz="1800" spc="-1" strike="noStrike">
                <a:solidFill>
                  <a:srgbClr val="fc0128"/>
                </a:solidFill>
                <a:latin typeface="Times New Roman"/>
              </a:rPr>
              <a:t>w 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vary</a:t>
            </a:r>
            <a:r>
              <a:rPr b="1" i="1" lang="en-US" sz="1800" spc="-1" strike="noStrike">
                <a:solidFill>
                  <a:srgbClr val="fc0128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8440" y="228600"/>
            <a:ext cx="65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mplementarity of Weak Lensing and Supernov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3620000">
            <a:off x="3695400" y="5067000"/>
            <a:ext cx="152280" cy="6858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54864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Systematics: Ground vs Space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106" name="cl_sys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6172200" cy="5727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9496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yst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560" y="3657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172200" y="1295280"/>
                <a:ext cx="24382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ys</m:t>
                        </m:r>
                      </m:sub>
                    </m:sSub>
                    <m:r>
                      <m:t xml:space="preserve">∝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s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a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018120" y="3200400"/>
            <a:ext cx="29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oise and 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Syst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re greatly reduc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Conclusions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440" y="1447920"/>
            <a:ext cx="866484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66cc"/>
                </a:solidFill>
                <a:latin typeface="Times New Roman"/>
              </a:rPr>
              <a:t>SNA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ll open the window of </a:t>
            </a:r>
            <a:r>
              <a:rPr b="0" lang="en-US" sz="2600" spc="-1" strike="noStrike">
                <a:solidFill>
                  <a:srgbClr val="3366cc"/>
                </a:solidFill>
                <a:latin typeface="Times New Roman"/>
              </a:rPr>
              <a:t>wide field imaging from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66cc"/>
                </a:solidFill>
                <a:latin typeface="Times New Roman"/>
              </a:rPr>
              <a:t>Ideal instru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weak lensing, which complements S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Dark Energy+Dark Mat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66cc"/>
                </a:solidFill>
                <a:latin typeface="Times New Roman"/>
              </a:rPr>
              <a:t>Systematic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likely to be much </a:t>
            </a:r>
            <a:r>
              <a:rPr b="0" lang="en-US" sz="2600" spc="-1" strike="noStrike">
                <a:solidFill>
                  <a:srgbClr val="3366cc"/>
                </a:solidFill>
                <a:latin typeface="Times New Roman"/>
              </a:rPr>
              <a:t>reduc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NAP will yield a </a:t>
            </a:r>
            <a:r>
              <a:rPr b="0" lang="en-US" sz="2600" spc="-1" strike="noStrike">
                <a:solidFill>
                  <a:srgbClr val="3366cc"/>
                </a:solidFill>
                <a:latin typeface="Times New Roman"/>
              </a:rPr>
              <a:t>ma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dark matter,  and a preci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asurement of the </a:t>
            </a:r>
            <a:r>
              <a:rPr b="0" lang="en-US" sz="2600" spc="-1" strike="noStrike">
                <a:solidFill>
                  <a:srgbClr val="3366cc"/>
                </a:solidFill>
                <a:latin typeface="Times New Roman"/>
              </a:rPr>
              <a:t>evolution of struc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66cc"/>
                </a:solidFill>
                <a:latin typeface="Times New Roman"/>
              </a:rPr>
              <a:t>Complement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wide-field </a:t>
            </a:r>
            <a:r>
              <a:rPr b="0" lang="en-US" sz="2600" spc="-1" strike="noStrike">
                <a:solidFill>
                  <a:srgbClr val="3366cc"/>
                </a:solidFill>
                <a:latin typeface="Times New Roman"/>
              </a:rPr>
              <a:t>ground based surv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SNAP: SuperNova Acceleration Probe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43" name="snap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5019840" cy="4305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05520" y="19810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SN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 m telescope in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sq. degree field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5-1.7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imaging and (low-res) spectr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” PSF (FWH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survey m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Wide field imaging from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3960" y="5105520"/>
            <a:ext cx="6958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Instit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BNL (P.I.), U. Berkel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RS/IN2P3/CEA/CNES, U. Paris VI &amp; VI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 Michigan, U. Maryland, Caltech, U. Chica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ScI, U. Stockholm, ESO, Instituto Superior Tecnic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6424560" cy="695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Mission Overview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4760" y="847800"/>
            <a:ext cx="5351400" cy="5745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87440" y="1022400"/>
            <a:ext cx="31590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00279f"/>
                </a:solidFill>
                <a:latin typeface="Times New Roman"/>
              </a:rPr>
              <a:t>Simple Observatory consists of 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00279f"/>
                </a:solidFill>
                <a:latin typeface="Times New Roman"/>
              </a:rPr>
              <a:t>1) 3 mirror telescope w/ separable kinematic mou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00279f"/>
                </a:solidFill>
                <a:latin typeface="Times New Roman"/>
              </a:rPr>
              <a:t>2) Baffled Sun Shade w/ body mounted solar  panel and instrument radiator on opposing si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00279f"/>
                </a:solidFill>
                <a:latin typeface="Times New Roman"/>
              </a:rPr>
              <a:t>3) Instrument Su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00279f"/>
                </a:solidFill>
                <a:latin typeface="Times New Roman"/>
              </a:rPr>
              <a:t>4) Spacecraft bus supporting telemetry (multiple antennae), propulsion, instrument electronics, et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500" spc="-1" strike="noStrike">
                <a:solidFill>
                  <a:srgbClr val="00279f"/>
                </a:solidFill>
                <a:latin typeface="Times New Roman"/>
              </a:rPr>
              <a:t>Almost no moving parts (ex. filter wheels), rigid simple structure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62280" y="3165480"/>
            <a:ext cx="2509920" cy="130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39920" y="1562040"/>
            <a:ext cx="2374920" cy="233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4840" y="4122720"/>
            <a:ext cx="2509920" cy="130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56120" y="2411280"/>
            <a:ext cx="469800" cy="18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Orbit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54" name="orbit" descr=""/>
          <p:cNvPicPr/>
          <p:nvPr/>
        </p:nvPicPr>
        <p:blipFill>
          <a:blip r:embed="rId1"/>
          <a:stretch/>
        </p:blipFill>
        <p:spPr>
          <a:xfrm>
            <a:off x="0" y="1523880"/>
            <a:ext cx="5181480" cy="4119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57800" y="17524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Earth Orbit (38 Earth radi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thermal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telemetry (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is sent down t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s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duced and cont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yst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524988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Camera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57" name="ccd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105160" cy="3724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15000" y="22860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 large format CCDs and 25 HgCdT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.1’’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visible and 3 IR fil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1 billion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of view; 1 sq. 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1400" y="1143000"/>
            <a:ext cx="16527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igaC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447920"/>
            <a:ext cx="4267080" cy="4038480"/>
          </a:xfrm>
          <a:prstGeom prst="rect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990720" cy="99072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hdf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205272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V="1">
            <a:off x="2438280" y="3200040"/>
            <a:ext cx="33530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38280" y="914040"/>
            <a:ext cx="137160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438280" y="3200040"/>
            <a:ext cx="1371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NAP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9144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bble Deep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7320" y="5067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ak Lensing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200" y="38862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ernova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800" y="3276720"/>
            <a:ext cx="310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Surveys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nova Surve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sq. 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&lt;30.4 (11 b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sq. 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-1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&lt;28.8 (11 b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7880" y="5791320"/>
            <a:ext cx="360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number of expos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frame every ~4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1440" y="-360"/>
            <a:ext cx="642456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imes New Roman"/>
              </a:rPr>
              <a:t>Mission Status</a:t>
            </a:r>
            <a:endParaRPr b="1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066680"/>
            <a:ext cx="8686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ly in the Study Phase of the project (funding from DoE and NS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asibility was demonstrated (reviewed by Goddard Integrated Mission Design Center, NAS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iewed by a number of Agency committees (DoE, NSF, NASA) and by Peer Committees (ex. NRC committee on the Physics of the Univer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pect to submit the proposal within a year or tw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al: fly by 2008 (about 4 years from approval to launc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ssion duration: 3 years, but expected to continue for several further years if fun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blic archival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Advantage of Space for Weak Lensing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75" name="galaxy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791320" cy="4632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3880" y="5670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surface density of resolved gala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reduced impact of the PSF sm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shap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Times New Roman"/>
              </a:rPr>
              <a:t>Strengths of SNAP for Weak Lensing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Wide field in spac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urvey area with exquisi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image quality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Depth of survey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duced shot noise and mappi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Many photometric band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of structure as function 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 redshift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Small PSF, Thermal stability, stringent optical requirements, multiple exposur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ly reduced systematics</a:t>
            </a:r>
            <a:endParaRPr b="1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23:03:00Z</dcterms:created>
  <dc:creator>Alexandre Refregier</dc:creator>
  <dc:description/>
  <dc:language>en-US</dc:language>
  <cp:lastModifiedBy>Alexandre Refregier</cp:lastModifiedBy>
  <dcterms:modified xsi:type="dcterms:W3CDTF">2001-08-06T00:30:06Z</dcterms:modified>
  <cp:revision>338</cp:revision>
  <dc:subject/>
  <dc:title>Weak Lensing by Large Scale Structure</dc:title>
</cp:coreProperties>
</file>