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8383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328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692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692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1440" y="-360"/>
            <a:ext cx="6424560" cy="32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328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Click to edit the outline text format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279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 flipV="1">
            <a:off x="576000" y="793800"/>
            <a:ext cx="7962840" cy="144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70680" y="108000"/>
            <a:ext cx="20322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Weak Gravitational Lensing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y Large-Scale Structure</a:t>
            </a:r>
            <a:endParaRPr b="1" lang="en-US" sz="4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43000" y="2590560"/>
            <a:ext cx="6858000" cy="3352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xandre Refregier (Cambridge)</a:t>
            </a:r>
            <a:endParaRPr b="1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aborators: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chard Ellis (Caltech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 Bacon (Cambridge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chard Massey (Cambridg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nowmass 2001 - July 2001</a:t>
            </a:r>
            <a:endParaRPr b="1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eak Lensing Power Spectrum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13" name="cl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5790960" cy="5291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495680" y="22096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886200"/>
            <a:ext cx="93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line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11430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CD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3244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SNAP WF survey [300 deg</a:t>
            </a:r>
            <a:r>
              <a:rPr b="0" lang="en-US" sz="2000" spc="-1" strike="noStrike" baseline="30000">
                <a:solidFill>
                  <a:srgbClr val="9933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 ; 100 g arcmin</a:t>
            </a:r>
            <a:r>
              <a:rPr b="0" lang="en-US" sz="2000" spc="-1" strike="noStrike" baseline="30000">
                <a:solidFill>
                  <a:srgbClr val="9933ff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9933ff"/>
                </a:solidFill>
                <a:latin typeface="Times New Roman"/>
              </a:rPr>
              <a:t>; HST image quality</a:t>
            </a: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1295280"/>
            <a:ext cx="320040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Future survey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gacam, Subaru, VISTA, LSST, WHFRI, SNAP, et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asure </a:t>
            </a: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cosmological parameter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et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ery sensitive 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non-linear evoluti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of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ruc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pping the Dark Matter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20" name="kappa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400800" cy="568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10280" y="4876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C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x0.5 d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in et al.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kewness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23" name="oms8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28800" y="1905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001000" y="1905120"/>
                <a:ext cx="533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302160" y="2590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ewn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001000" y="2590920"/>
                <a:ext cx="533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905120" y="6248520"/>
            <a:ext cx="601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kewness breaks degeneracies (e.g.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11430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f. Bernardeau et al. 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ark Energy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447920"/>
            <a:ext cx="853452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ff"/>
                </a:solidFill>
                <a:latin typeface="Times New Roman"/>
              </a:rPr>
              <a:t>Effect of Dark Energy on Weak Lensing Statistic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difies the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Angular-Diameter Distance                         </a:t>
            </a: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difies the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rate of growth of structures                          </a:t>
            </a: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difes the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shap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of the linear matter power spectrum    </a:t>
            </a:r>
            <a:r>
              <a:rPr b="0" lang="en-US" sz="2600" spc="-1" strike="noStrike">
                <a:solidFill>
                  <a:srgbClr val="ff9900"/>
                </a:solidFill>
                <a:latin typeface="Times New Roman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0800" y="4572000"/>
            <a:ext cx="471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Times New Roman"/>
              </a:rPr>
              <a:t>Cf. Benabed &amp; Bernardeau 20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969696"/>
                </a:solidFill>
                <a:latin typeface="Times New Roman"/>
              </a:rPr>
              <a:t>Huteterer 20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969696"/>
                </a:solidFill>
                <a:latin typeface="Times New Roman"/>
              </a:rPr>
              <a:t>Refregier et al. 2001 (in prepara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wer Spectrum with Dark Energy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1371600"/>
            <a:ext cx="388620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the non-linear power spectrum for quintessence models of  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Ma, Caldwell, Bode &amp; Wang (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Dark Energy equation of state (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=p/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can be measured from the lensing power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, there is some degeneracy between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cl_w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nap_target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315200" cy="6159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73392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eak Lensing + C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approxima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360" y="960480"/>
            <a:ext cx="52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eak Lensing breaks degeneracies in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w-</a:t>
            </a:r>
            <a:r>
              <a:rPr b="1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3040" y="130320"/>
            <a:ext cx="86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plementarity of Weak Lensing and Supernov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40000">
            <a:off x="3585960" y="5086440"/>
            <a:ext cx="152280" cy="685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548640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914400"/>
            <a:ext cx="883908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Cavea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sensitive to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Non-linear Power spectru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need very accurate fitting formulae from N-body simul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quires knowledge of the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redshift distributio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of the galax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quires tight control of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systematic eff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Additional informatio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wer spectrum for different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redshift bi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tomography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High-order moment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skweness or bispectrum, et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ss-selected </a:t>
            </a:r>
            <a:r>
              <a:rPr b="0" lang="en-US" sz="2600" spc="-1" strike="noStrike">
                <a:solidFill>
                  <a:srgbClr val="00ffff"/>
                </a:solidFill>
                <a:latin typeface="Times New Roman"/>
              </a:rPr>
              <a:t>cluster catalog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3200" y="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ood News and Bad Ne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eak Len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emerging as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owerfu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que to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easure large-scale structure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based o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ean phys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directly measures th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s opposed to light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provide precise measurements of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smological parame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mplementing other techniques (Sne, CMB, etc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Lensing can set tight constraints on th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rk Energy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tight control of systematics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de prospects with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upcoming and future survey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Megacam, Subaru, VISTA, LSST, WHFRI, SNAP, etc)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eak Lensing by Large-Scale Structure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ortion Matrix: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easure of  the distribution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universe,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opposed to the distribution of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s in other methods 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g. Galaxy surveys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44" name="lensing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39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75480" y="4575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581280" y="3886200"/>
                <a:ext cx="39625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8" name="fig7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419720" cy="2462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181480"/>
            <a:ext cx="10666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5181480"/>
            <a:ext cx="0" cy="1526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30480" y="49528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cientific Promise of Weak Lensing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pping of the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distribution of Dark Mat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n various scales 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 of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cosmological parameter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reaking degeneracies present in other methods (SNe, CMB)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 of the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evolution of structures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of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gravitational instabi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aradigm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of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General Relativ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weak field regime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mass-selected clus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atalog</a:t>
            </a:r>
            <a:endParaRPr b="1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7480" y="106668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istics of the shear fie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ak lensing provid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fig6a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267440" cy="425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324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ain et al. 1997, 1x1 d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eep Optical Images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58" name="reals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715000" y="1219320"/>
            <a:ext cx="28414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4572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William Herschel Telesc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La Palma, Can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wht_sun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4807080" cy="3365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54100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’x8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&lt;25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 (15) gals/sq. arc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ocedure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133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drupole mom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2209680"/>
                <a:ext cx="36576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819000" y="3241800"/>
            <a:ext cx="14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ipticit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0400" y="3124080"/>
                <a:ext cx="3581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209680" y="44197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257800"/>
            <a:ext cx="18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2320" y="5164200"/>
            <a:ext cx="270000" cy="252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5920" y="5207040"/>
            <a:ext cx="3808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308600">
            <a:off x="831600" y="5212800"/>
            <a:ext cx="3808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197600">
            <a:off x="2044800" y="4142880"/>
            <a:ext cx="3808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18400">
            <a:off x="2045880" y="6227280"/>
            <a:ext cx="3808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08440" y="4844880"/>
                <a:ext cx="28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863720" y="4386240"/>
                <a:ext cx="3110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148640" y="438624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424480" y="4356000"/>
                <a:ext cx="3238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κ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629320" y="5549760"/>
                <a:ext cx="1828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166280" y="55548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rumental Distortion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81" name="figure6b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14600" y="1752480"/>
            <a:ext cx="385128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0" y="2057400"/>
            <a:ext cx="6858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209680"/>
            <a:ext cx="6858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1981080"/>
            <a:ext cx="6858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9624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5800" y="354636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thered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SF anisotropy</a:t>
            </a:r>
            <a:endParaRPr b="1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88" name="psf1" descr=""/>
          <p:cNvPicPr/>
          <p:nvPr/>
        </p:nvPicPr>
        <p:blipFill>
          <a:blip r:embed="rId1"/>
          <a:stretch/>
        </p:blipFill>
        <p:spPr>
          <a:xfrm>
            <a:off x="270000" y="1295280"/>
            <a:ext cx="4176720" cy="4687920"/>
          </a:xfrm>
          <a:prstGeom prst="rect">
            <a:avLst/>
          </a:prstGeom>
          <a:ln w="0">
            <a:noFill/>
          </a:ln>
        </p:spPr>
      </p:pic>
      <p:pic>
        <p:nvPicPr>
          <p:cNvPr id="89" name="psf2" descr=""/>
          <p:cNvPicPr/>
          <p:nvPr/>
        </p:nvPicPr>
        <p:blipFill>
          <a:blip r:embed="rId2"/>
          <a:stretch/>
        </p:blipFill>
        <p:spPr>
          <a:xfrm>
            <a:off x="4587840" y="1255680"/>
            <a:ext cx="4175280" cy="468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6324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-10% rms reduced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orrection Method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720" y="1674720"/>
            <a:ext cx="59673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SB Method: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     (Kaiser, Squires &amp; Broadhurst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7120" y="2390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F Anisotrop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86440" y="2422440"/>
                <a:ext cx="24764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/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m</m:t>
                            </m:r>
                          </m:sup>
                        </m:sSubSup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12800" y="391968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F Smear &amp; Shear Calib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43680" y="3967200"/>
                <a:ext cx="2135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73880" y="4924440"/>
            <a:ext cx="9056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ther Method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Kuijken (1999), Kaiser (1999), Rhodes, Refregier &amp; Groth (2000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Refregier &amp; Bacon (20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urrent Observational Status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438280"/>
            <a:ext cx="3886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easur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nsis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gre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cluster-normalised CDM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of th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mplitu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mass fluctu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0.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1.07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.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var_obs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800600" cy="4581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6035760"/>
            <a:ext cx="876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uster cou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Viana &amp; Liddle, Eke et al.)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0.3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1.0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.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greement, test of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imordial non-gaussia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91120"/>
            <a:ext cx="158760" cy="141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657600"/>
            <a:ext cx="158760" cy="141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0760" y="3695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0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41240" y="853920"/>
            <a:ext cx="356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ff"/>
                </a:solidFill>
                <a:latin typeface="Times New Roman"/>
              </a:rPr>
              <a:t>Shear variance in circ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ff"/>
                </a:solidFill>
                <a:latin typeface="Times New Roman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523880"/>
            <a:ext cx="609840" cy="609840"/>
          </a:xfrm>
          <a:prstGeom prst="ellipse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1828800"/>
            <a:ext cx="152280" cy="2286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3960" y="35812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60160" y="16765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52388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=&lt;</a:t>
            </a: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3:03:00Z</dcterms:created>
  <dc:creator>Alexandre Refregier</dc:creator>
  <dc:description/>
  <dc:language>en-US</dc:language>
  <cp:lastModifiedBy>Alexandre Refregier</cp:lastModifiedBy>
  <dcterms:modified xsi:type="dcterms:W3CDTF">2001-08-06T00:21:04Z</dcterms:modified>
  <cp:revision>402</cp:revision>
  <dc:subject/>
  <dc:title>Weak Lensing by Large Scale Structure</dc:title>
</cp:coreProperties>
</file>